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634-DDE0-4E2F-9224-1F325DF0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20C-F09C-4248-9966-6018354E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F96-9892-42A2-8E2E-67816B4D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B1D-2E40-4712-8299-6E7DBCD4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93E-48CF-4715-89B4-FDD2BCE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A71-EA72-4C5C-86BB-D42331E6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657-329C-4624-8CE6-2EB1BE59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778-3AE2-437E-AC2B-024BF151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792-FB0F-49EE-B351-112EE13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361-D71E-4F4E-B00D-4CBCA6B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25A-64F9-424C-A75F-21D1A6A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BF2-0E64-4DFC-82F0-2EB7B5BC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7327-C07F-4A39-8E96-115017DF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picture is worth a thousand words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11506320" cy="6832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the path is smooth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times the road has been blocked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4330800" cy="441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96080" y="14479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9829800" cy="6800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91120" y="380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#@#@#&amp;&amp;*****%%!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866920" y="837720"/>
            <a:ext cx="2514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encountered many forks in the ro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84640" cy="635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ve discovered the road less trave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614840" cy="6172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0820160" cy="688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22860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04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imes, confusion!!!!!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095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eeling of going nowhere fast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219320" y="0"/>
            <a:ext cx="10363320" cy="690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joys of enlighten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5943600" cy="520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1066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Trish, Sherri, Patti, and Darr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is a computer worth a million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is it a window to the world?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rld of endless possibilit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-LITE has taken us on a jou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44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journey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of lear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of tea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819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376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038480" y="3279600"/>
            <a:ext cx="5105520" cy="357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journey full of many peak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467480" y="14479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10287000" cy="6837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and vall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1066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7:02:23Z</dcterms:created>
  <dc:creator>SET </dc:creator>
  <dc:description/>
  <dc:language>en-US</dc:language>
  <cp:lastModifiedBy>SET </cp:lastModifiedBy>
  <dcterms:modified xsi:type="dcterms:W3CDTF">2008-07-12T21:23:33Z</dcterms:modified>
  <cp:revision>5</cp:revision>
  <dc:subject/>
  <dc:title>If a picture is worth a thousand words………</dc:title>
</cp:coreProperties>
</file>